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10B-9213-409D-8CC5-FCD52FD6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C34-6E86-4F55-A2AD-548D224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F97-DD71-4750-9813-69F871F4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564-E7F9-4620-A194-A17986CF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3F6-866D-4BDC-BB68-646172A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006-E849-4994-9F8A-FB7D10CF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AB8-7512-4E4C-91A9-6AA9C9B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AE8-2F92-47C3-AA3E-10EF9AA8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CDC-9763-4FC6-BE52-E77F952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6F2-087E-48A0-9C5C-EDA8B5C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822-51A6-4081-956B-B778028D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8C6-60C2-491D-ABE2-3C9D96C2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8E0E-EB5D-4065-A281-2B8D444C9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2.3    Simplifying Variabl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133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 number, a variable or the product or quotient of a number and a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828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429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 number with no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5715000" cy="270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914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1: Identifying Parts of a Variable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9600" y="30481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number in front of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828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p.78-79 #18-40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3809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iz tomorrow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609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8360" y="10666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ave the exact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0574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You simplify a variable express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590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mbining 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276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ductive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809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aching a conclusion based on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762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305920" cy="2436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609480"/>
            <a:ext cx="54864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: 9 + 4f + 3 + 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 Circle like terms, including the sign that is to the left of them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1600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4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+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362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6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286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 Combine them using the rules for adding and subtracting inte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429000"/>
            <a:ext cx="3276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: 2b + b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b +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2: Simplifying Variable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th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1430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coefficients, the like terms, and the constant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x + y – 2x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0481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implify:  8 + 3w + 6 + 4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191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implify  5t + t –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1981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x + y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3429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w +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572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t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9810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 (7 – 3x)5 + 2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2895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(7)  5(-3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35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– 15x + 2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5680" y="3809880"/>
            <a:ext cx="16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– 15x + 2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+ 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2895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mbine 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0292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(2x – 4)               -2(3x + 4)                  -3(4y –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019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x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6019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6x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019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y +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69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762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2, 4     2s, 4s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0666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-4    none   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9, 2, -2, 1     9m, -2m    2r, r     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22440" y="1407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2438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7a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5812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3581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-1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3581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3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y + 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4800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x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082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905120"/>
            <a:ext cx="8839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533520"/>
            <a:ext cx="7239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variable expression using only the terms lis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Leave room on the white board to simplify your ans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: -4, 6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: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 2,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029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Simplify your answ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01:27:07Z</dcterms:created>
  <dc:creator>Susannah Graham</dc:creator>
  <dc:description/>
  <dc:language>en-US</dc:language>
  <cp:lastModifiedBy>grahams</cp:lastModifiedBy>
  <dcterms:modified xsi:type="dcterms:W3CDTF">2011-10-26T13:38:48Z</dcterms:modified>
  <cp:revision>19</cp:revision>
  <dc:subject/>
  <dc:title>Slide 1</dc:title>
</cp:coreProperties>
</file>